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22.wmf" ContentType="image/x-wmf"/>
  <Override PartName="/ppt/media/image26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11.jpeg" ContentType="image/jpeg"/>
  <Override PartName="/ppt/media/image36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9.png" ContentType="image/png"/>
  <Override PartName="/ppt/media/image38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  <p:sldId id="293" r:id="rId71"/>
    <p:sldId id="294" r:id="rId72"/>
    <p:sldId id="295" r:id="rId73"/>
    <p:sldId id="296" r:id="rId74"/>
    <p:sldId id="297" r:id="rId75"/>
    <p:sldId id="298" r:id="rId76"/>
    <p:sldId id="299" r:id="rId77"/>
    <p:sldId id="300" r:id="rId78"/>
    <p:sldId id="301" r:id="rId79"/>
    <p:sldId id="302" r:id="rId80"/>
    <p:sldId id="303" r:id="rId81"/>
    <p:sldId id="304" r:id="rId82"/>
    <p:sldId id="305" r:id="rId83"/>
    <p:sldId id="306" r:id="rId84"/>
    <p:sldId id="307" r:id="rId85"/>
    <p:sldId id="30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slide" Target="slides/slide38.xml"/><Relationship Id="rId72" Type="http://schemas.openxmlformats.org/officeDocument/2006/relationships/slide" Target="slides/slide39.xml"/><Relationship Id="rId73" Type="http://schemas.openxmlformats.org/officeDocument/2006/relationships/slide" Target="slides/slide40.xml"/><Relationship Id="rId74" Type="http://schemas.openxmlformats.org/officeDocument/2006/relationships/slide" Target="slides/slide41.xml"/><Relationship Id="rId75" Type="http://schemas.openxmlformats.org/officeDocument/2006/relationships/slide" Target="slides/slide42.xml"/><Relationship Id="rId76" Type="http://schemas.openxmlformats.org/officeDocument/2006/relationships/slide" Target="slides/slide43.xml"/><Relationship Id="rId77" Type="http://schemas.openxmlformats.org/officeDocument/2006/relationships/slide" Target="slides/slide44.xml"/><Relationship Id="rId78" Type="http://schemas.openxmlformats.org/officeDocument/2006/relationships/slide" Target="slides/slide45.xml"/><Relationship Id="rId79" Type="http://schemas.openxmlformats.org/officeDocument/2006/relationships/slide" Target="slides/slide46.xml"/><Relationship Id="rId80" Type="http://schemas.openxmlformats.org/officeDocument/2006/relationships/slide" Target="slides/slide47.xml"/><Relationship Id="rId81" Type="http://schemas.openxmlformats.org/officeDocument/2006/relationships/slide" Target="slides/slide48.xml"/><Relationship Id="rId82" Type="http://schemas.openxmlformats.org/officeDocument/2006/relationships/slide" Target="slides/slide49.xml"/><Relationship Id="rId83" Type="http://schemas.openxmlformats.org/officeDocument/2006/relationships/slide" Target="slides/slide50.xml"/><Relationship Id="rId84" Type="http://schemas.openxmlformats.org/officeDocument/2006/relationships/slide" Target="slides/slide51.xml"/><Relationship Id="rId85" Type="http://schemas.openxmlformats.org/officeDocument/2006/relationships/slide" Target="slides/slide52.xml"/><Relationship Id="rId86" Type="http://schemas.openxmlformats.org/officeDocument/2006/relationships/slide" Target="slides/slide5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A5E8-2C48-4C90-AAD3-D22AB5113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A5F2-0732-4C8E-AC72-D0ED568D1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30D2-1DD0-44B0-AC37-B7B19C38A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документација представља златни стандард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чунавање мера учинка (перформанси) здравствених установа и здравственог система, а  обезбеђује   здравственим  радницима  поновни   увид  у  раније пружену здравствену зашти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ј начин би ризик по здравље пацијената требало да буде сведен на минимум,  а да корист по пацијента буде максимал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9F51-22B4-4D33-884F-4CA2C4EB7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2E7B-6D26-4A97-9709-E4113F719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358-FB52-4237-87B5-00251EF8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89A-3130-4F04-9226-6C6D7BC4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2F538-3950-4A94-9305-FA018DF1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6F06A-F88F-43A8-8A0C-1C072A1C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CCB7F-8487-4137-9D76-1E3DB1E0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31705-D0B7-4C3C-B801-BDAACEBC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807B7-ACFD-475E-A07E-0DD6C620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B86FB-2FA8-47C9-8288-4396A7B8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3E95D-5A09-4C38-89AE-E981F1BC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D5CF5-F47D-4CBE-B65E-306B9E0A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B506F-0083-4C93-AE33-3B506040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B36F3-56DA-4664-A474-1EBF5344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A95-A8A7-4F85-9BE1-F6AFC52B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98A28-3842-474B-99E8-183AFE25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25544-7EF6-435F-B8CD-2068384B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EBAE7-AF0B-48E4-9A3C-9269317A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6A93D-CA68-4C22-BC50-92EB64F4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133D4-C510-4856-98DD-19941731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01441-E0BA-46D4-BCA7-35A82B43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DBA3C-0862-43CE-9211-D9EE093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C891D-7449-4E8D-B483-13484205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104DF-FE95-4C90-8707-22A29042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8688E-8432-472A-8ECA-BE0EF2C0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81D-C269-4086-B213-E2BAAF80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47E82-5486-4AE3-9500-CC2CA1F0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B1B87-7A8B-42DA-9381-E892C6F9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8CADD-F189-440C-A1A8-9CC80879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D4782-FBB3-4CB4-97C6-7AE471AF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00A11-AD79-4630-9185-D728D828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A1472-DB58-49C2-9C7D-45BC7A4C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AB7A3-F6C7-4475-A373-BDE8D64C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EB5B2-0AEB-4AD4-B94B-97519B4D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1E9AB-BB3F-40A0-B85F-77C8A2E3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83785-BC7A-45C9-AAEF-262CBCF7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9E34-8387-466D-9CE0-9CD0C622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74A54-E7AB-4900-8B40-052B21C4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DBDEE-B530-433C-A0CE-D9FC169A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3CB1C-EAA1-46CD-A07A-FA594D0F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BEF32-A09B-4A44-BB59-8966B10B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19635-7741-4EBF-8576-3CED2BA7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06F09-EFFB-4A91-AEC0-973757F9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05C2C-3B54-4FB1-BD98-BB1730CB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FC7E5-D672-421B-9FE2-EE9E8236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EE1D2-CC72-40F9-B26E-BE3461A4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CBB3F-1D93-4629-A18B-BA40FBB5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43FA-E713-4EBC-A290-E274647E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471C9-EA7C-4EFB-BA63-66A77789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0D026-6DC2-48EB-A938-711C886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7BEE5-E602-48FC-8D7B-23E570E8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D7A87-7E15-4669-9581-54B23BC0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02508-8412-46F1-81CB-B16CE552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F0F16-09DB-4D0F-A09A-9423D834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541B4-A97F-4B95-879E-7262E196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F9D47-CEBA-4D25-A193-8412920A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69EBB-39F2-4AB5-A3CB-F6B09220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E04DC-9ECA-4801-BCF3-327EAEC9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5838-BF85-4A29-A103-BF15406D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5FA97-A7F9-4752-AC60-89FE375D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902B6-3F52-40A2-AD2E-F4711A23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8B812-BD3E-4CDD-8B2E-A4F8F5B0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A5468-4ED9-40C0-8E3E-A0C4C49C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9EE1D-D253-42C7-8B69-F7D7AFE2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D45D5-E435-45C9-80C9-8245FEDD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3DD36-F74C-4A6D-B1AA-3D9F327A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A06FE-C229-447A-AF33-91D99917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0CF37-5DFA-464C-9BB5-860D0075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BF1A6-0BE6-455F-AFB8-B5365710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E7AB-9FF7-42A6-AECC-F759F4FE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4CE0D-3358-426E-8A9D-4177576A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38556-697D-40DE-814E-543488B3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FA397-0353-469A-8229-068E3C7E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6EFBE-D8D1-4AB4-B828-97A06A3F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62FEB2-08C6-4F33-8406-0085DF63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31E23-D3B6-4D1A-8C91-312B7F3C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48527-5CD3-4113-BF95-DCBEDDCB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A6DBD-06B9-48D4-A500-B708E04A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37252-ED17-4E0A-9A87-B18E7962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8C0D8-8084-464E-805B-D40EC6C6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AF7E-F56C-4F1E-B9D1-7C375281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BE607-F958-487F-A0AE-2DC752AD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72DF0-C45F-48E0-BC9E-FE921896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35025-04B0-491E-9C9B-0B1A84B7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EC1C2-7D38-45D8-A67B-71701407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87FDD-2ED3-43A2-AE17-2D66BCA8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7506C-8CAC-428D-94BA-0C88004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0CA99-6B17-43D0-815C-062653C9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CC24D-4275-4754-8CEE-0F4B741E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8C9AD-8A15-4143-8059-F49F5711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DF110-2D9F-4C84-99B1-2FAD8F5B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F6EA-13AD-4862-9C86-12DDD24E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5EC00-BF45-467A-9E68-F86EC688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6AEA5-A2BA-4C10-89D3-17BA66CA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05BC2-BD32-46AE-8AC4-CE77ECD5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13AE1-E9A1-4B42-A703-49E3A8B6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E8E36-9735-43C3-A0E9-F305AFB2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9F143-FB1A-41B7-A069-5AE8E520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228AF8-6B28-4AEA-9A2C-5B2A2DCA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D692D-7D07-4CF4-9982-9D4700F4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E07FA-CA3A-40A0-AAAE-5D8AA736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D7E5C-F06E-4F96-9177-9F1BE30C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B1B9-AEB4-4163-B175-96AF8CEA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5DB37-56B0-43A7-88B3-0ED94474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3B574-EA63-4EC8-B7DB-D5C277D5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3A96DD-2F80-475E-B61F-90F3CE5D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92EDFC-F3F5-4CAF-A240-C02F0BB5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0EDE2-94D4-4305-BDB9-F83619A5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BE7B0-205F-47E5-8CED-3845F7C4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CA5FA-882A-4398-8104-02383308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E0CD0-ECAC-4088-AEF0-4D1EF300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1183FB-61DE-4315-8EC2-D95B0808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88872-1D29-434B-99DD-3A06C2B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E78-1495-413A-BB49-05DC0493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2F17-447F-41C5-8CE6-C9C858F7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7A7BF-762C-4B4B-8D44-B4A3B0F7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A32F26-2BEC-41A3-B8FE-5B929309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4D138B-316D-4447-B805-F9E36264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2DDD0-A7A3-4A0A-8AA5-844C9CD6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2ED17-EF6F-4C22-9383-4560F683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494D9-567C-4FDC-A3F7-3263B689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6A7CAB-0301-483B-8F94-BE4189A0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EAC9E-12BD-406D-B71E-BB51E56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D231B-78D9-457C-8729-D3684D0E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49CEC-42E2-4A86-AD4E-FA5BB706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2606-0923-4841-AD7D-76D52EC4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E0977-F042-488B-8ED5-229F2C17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0FF1EB-078A-4CEE-BCA3-C0070A69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DD6355-8BBD-4217-83F9-F0C60EDC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AC0D7-D434-4FDC-A2D5-205A4AB8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C3337-B82A-402E-818C-37DB22CB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B97677-4A62-4A8F-AA82-13BFD770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D31BA-C6B7-4575-B071-DFD8BC2C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E4C7D-24F8-4FBE-BADD-297B2F79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6BF801-69BF-4A74-98A1-DC6C39CB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EA4A49-8C36-46B9-B158-6980039A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6031-AA9D-4FD6-86D4-740CC2B0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D34929-AA37-4ED1-9D71-0F890F3B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613CD8-8DF2-43E3-B34F-7ED29432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6A108-EDF6-4D71-A707-D7A4ACDE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65491-EFFC-4267-84F4-BB878172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2C1CAA-98F7-47E7-8120-37ED5373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308531-2390-4E77-AC4A-FBB05A17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9C50A0-8E0C-4149-A080-8F08A495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58C56-17FA-42D7-B550-A8BA525C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FB9FA8-56BC-4878-AF82-77E08EE3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EB65D4-4370-4C2D-BE11-0306849F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5C8D-942C-4245-B27F-E529620F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BDC62B-A948-4E2A-B582-E64B686A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90914-DBBB-4EDB-BD0F-EA87DC00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9CECC3-5EC1-4C61-81C2-0A41A36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CDBCA-38D4-4FB4-ADB7-BCC29177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B18289-68D9-46A9-A16C-05F5A65E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10D54-58A2-466D-A3A4-CACC2EA7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254C3-A40C-4D87-A8B6-C9DD1F7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89819-9369-4791-9D3A-C0F42BD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5A5773-50EB-4DD8-8D01-5B68E266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14B24-588A-44E5-974C-41737F4F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1070-B801-45AC-9FEB-56761394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3F624-802E-4312-B47D-F4216C0F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115210-1175-4FF1-B48E-A38493ED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65448-512A-492B-9823-8144CDEB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062C28-FF12-4A31-8A45-E8E471CC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154AA-2B04-4926-A0DF-6075D13C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5EE246-4E32-4C44-8A5D-F83B8E3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16AC3D-636E-4513-84C7-E2F4C1A4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3E60A9-B580-49CD-B40B-ABCEED46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417B2-866F-49CF-B58E-3DB304BC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0CD29-6FB5-496A-BD8A-C32D782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C384E-8FFC-47EF-A9EA-53ED697E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3A28F-2D74-4BB8-BB8A-3E15070A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C162F5-C777-4DE9-B749-D8D37735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F37FC5-162E-4B70-9771-FC3E0AD5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6D44A2-55CC-4F64-8538-2DF63983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41C9F0-5816-49FB-B9D1-F47C9F62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7CD20B-008F-4366-A4DC-29BD85F9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60F668-3AB8-4BF0-93DE-EB1C0430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AB85B8-CE5B-42AD-9B34-F6D4C902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621215-8487-493D-9CE4-6E6B0F45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6FCCBA-DF56-443C-94B9-6D9825FB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7F73-CC4B-4136-B65F-018F0013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9C531E-A266-49A5-AA60-96CE0FE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2761B2-3EE3-4C7B-AF94-D2A04085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4BC3F0-3FD1-432A-B7F4-BE43A70E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0E4A5E-448D-491C-A1B7-CB9A8338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A9BADF-7754-4D77-999A-46402467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BAFE58-4915-4B95-B306-C22FC597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BC3C16-6482-41F2-879C-067554F4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8272C9-0B30-4FCA-8F74-3DF24838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1B2270-9B5A-41C1-9B45-94E324A6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A6C169-55A4-41F1-A3FC-23ADCDD9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5E8A-F1E7-4274-89D0-ED3EB115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6E889F-6E49-4B69-8C42-DC488A38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0DC6B1-5807-4AB7-959E-A0D28B6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882A90-0231-4425-B17C-B1A4CB77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4FB894-E2AF-4285-B4F8-D0ACC852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4EDE9B-C3DE-4D31-99D6-397FE080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A09880-60D4-41CA-A839-E6BF316B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890EF3-0B43-4074-B2BF-46B8B1C4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B89A10-D013-4FA3-87C2-A40F8164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5590EB-3107-4BBC-A8A9-8ED3B73A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2EB887-579F-4060-9284-BFC18EF5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71EB-E6F9-4575-88F7-2B756D31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58FD5D-2FEE-4C57-AC39-CA738092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329F05-09D4-4B56-A6EF-F50933BD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4A3893-C249-47DB-9C84-3626AED8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4C75D8-0B75-4A8F-B108-C4C45620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5BFC82-A5F7-451E-A357-AC2E866C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33C3BF-C11C-4D89-9E86-4C8A2E4E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43BC2A-0B58-4393-A888-7EAA6169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C6BEF7-A51D-4F88-8993-CF95400E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8E794A-0632-4728-9A87-8B40C42F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B982AE-4515-40C7-B20D-AD7734C1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AD95-4802-47B3-B889-E5327E4A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B7CDB8-1355-4C9B-B8B7-DC7A04F9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75A4F5-4EFB-4728-AAAA-2B09ACFC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F8CCF3-C6FC-4337-97F8-2D4D5B6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7A3F16-9D11-4E5A-9249-6C9E877B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C42C49-5CE5-458F-A6A4-4876FD23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8765BD-50A7-47EB-A7E5-9D00C7D9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25C24F-BCF9-4693-B770-2882944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E33A62-F8DC-410C-A059-7E5AC284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F44F11-7AC3-4DA4-83DE-061BD8CC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516E17-9E37-41B5-B3ED-863A985E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A3A-E38D-4E29-9C94-53588146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922B-D063-4BDF-9F04-FF60D099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26D796-0BDA-4A47-90D2-D4F4DD6A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885058-B4F4-4676-95CC-FD6788A3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91F3CD-682B-437C-BD9C-9237D14C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F084F1-894B-4BC8-A903-2FEBE187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0412DB-89B0-495B-8D60-873B02B0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DB3557-9E6E-4894-8C6C-4CB25A13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7F793D-23A2-47AA-B8F7-5626AC74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32D465-961E-40FC-A6C2-B46CE66B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DEFA69-8FDD-49C0-9CF0-24DBC216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B973EE-0CCC-48AE-A612-1FEA444E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E8EF-5F30-47C5-9701-B7EF639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90A119-FED1-4972-82F7-B23EE13E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2A8979-0322-47FC-A4BC-34333C3D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3C6675-FC27-41A8-9D8D-E0FD27B4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164894-914C-44DD-BE27-9D13416B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0EF781-B0A3-4687-B5A2-717C1C93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76D351-59CB-49FD-937B-F758F6AD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1B4058-D90D-4C81-9704-AFEF0B6B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87F78F-D52C-4940-B8D0-95E158E8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B3EE66-B9A4-4581-9DFB-F3F86271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D5CD0D-22D0-4CC6-919E-15E0BE4F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C1A1-D5B1-4B1E-8A0A-FE7B71BE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6755C7-BB71-4308-9D79-FC45D288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A63C22-D4CD-44FA-8016-4B46A5F5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22EF15-CF0C-4116-8DD6-840DE06A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B8FDD0-F3C5-4A20-876C-4668F805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4389BC-03BE-4F16-BF3C-9731C456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8D79B7-8BF7-4A12-A8FF-CDCB07E5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87E69D-9116-41D6-B921-32858D45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B86526-D97A-4014-B21D-194159BD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483BD5-B9D1-4EFD-927D-DD9C1359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9CD7A3-BD61-4762-B1E4-DD164C11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41724-28C1-4FF0-98A0-4E9644B1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E3B863-1D12-4C1B-B50A-AF55F6FE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80CAD7-7144-45C0-9BA5-C5FD75F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63FBB5-3A0D-4D15-9912-03ABCE36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59F001-3FAC-4F0F-AE64-FF7E043C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6AD1D7-7486-4294-A721-FABB92F7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D5B470-3434-46B4-A3FF-C027E6D4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C74B0B-ABEC-472B-99E1-E8ADCA6E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F06D86-F01F-41F4-AC85-B282D1EC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FC209D-A26A-440B-AFE1-B827659D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3B3B64-07B9-4E06-BFAA-949EF157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9A32-DEB5-4BA6-8382-20C0DB7A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957BE2-1B9E-4C0F-A2E8-17631A2C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EE5199-95BE-49EB-A437-1659D14B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A8DB21-4EC4-439B-9DB5-D7408EC1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984C37-D4F4-4E5C-9B45-D8E2AA38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85AF86-2353-4057-B227-D4E81989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2CCA56-A188-4108-B8CA-CF3A283D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5CF1B6-F8B4-4BA5-BB0F-EF2E5F5A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4BF6D0-013E-4EF2-862D-A4CD6777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FC92F9-08F2-4FD3-90E9-8B029216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6A4B3BD-F9A6-462E-9C22-130E3F60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4C36-0AAB-4961-98A9-D3509DF3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241C3C6-B77D-409F-9AD2-15BB5AFC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228CC11-C927-4A14-A454-D867D6AC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DDF06B4-2C2E-4592-B87E-281C1DF2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F34C4E1-3E00-46BE-858D-EA29BA97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B892DD1-9DD5-46C3-A146-130AE514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9BFA9BA-FFBD-464B-86A2-1F708A0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E23AA80-58D1-4E20-9555-AC0899A9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10B3B20-D428-4305-A7F3-3E683D57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6D8C83A-0D6E-4805-ACE4-5FF8ABF0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735A961-DEE7-4808-BCEC-93170E18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2E7D-B2BF-450E-AE02-09E23865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69F0852-5343-428A-A120-FA4CDA85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B39CC7F-B3F6-458C-B8D0-177A52D7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DB31E76-EC55-4817-9741-1F7A78E9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92DE50C-5BF9-4DDD-A34F-2839B6CB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C56933A-C62F-498B-9804-01BCE4BA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83CFEDE-39BC-4B77-AC9C-F7B58A63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DE9FB94-6643-4C48-877A-A810850F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E898608-4058-49AA-BD22-5F7D910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95AB3A6-A618-4482-915D-04D8CE65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8188B22-DEAC-4D15-93EF-7183AAD5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38427-EC33-4110-9B85-2CB13E0B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864BF0A-7A86-49B7-87DE-FA6F85C6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9E446BB-71A6-4D90-ACDF-0BEE5102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E987468-B54B-4985-8230-590BF866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37E9-F7C7-4AD4-B544-1424A463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3F0E-1E69-43E4-BF4A-5C17AA2E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D7C-C18A-41F7-9B5E-6AD5A661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357C0-6544-4EC8-8F84-53D6EDE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295AB-55FD-40E9-98F5-79F7B747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B3207-03A3-4118-9ACE-A71AAAA8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82DB-8755-4998-A08A-193F4E61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8A302-BF69-4655-A7EE-5763A141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FC9C-3170-45B6-A285-BE3FB0DA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68519-B21E-48F8-8EC5-A2CB9211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B0F01-D8C8-4B7B-BDB0-8C4C4955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7F63E-5610-401C-BF66-7B6EC830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3D7C2-E808-4BF7-A627-FB3471DB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A20-11B1-4821-B674-14F4D166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DBE04-93F9-4F83-9444-3A55F473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F9161-5B67-4757-A131-DA94B62A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C2312-1415-40B5-920B-B8406655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4105-5468-4651-AAD5-899D1F79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BB292-3B77-41BF-8490-40E34E1A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DD4E4-2ED9-4439-B7FE-8D4F4A1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CF744-A656-4CF2-9433-861F2CAA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E6726-1F20-469E-9A40-CE6327AA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F8A33-E697-475F-886B-35C60A44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43F0F-41FD-4CBC-8FA8-A53C4C76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C56-4979-40A8-B47F-7CB8AA05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E3A7C-16FD-49DB-9FF1-75F712BA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9F2D0-7150-49BA-8D1E-2F037C89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CDA22-D1DF-4441-929E-70D53976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400C9-FDBA-4A08-A7B2-7B5EFAF3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8F2CC-77FB-4D1A-B11D-DAF2CC2C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089DF-1860-425F-9FC7-68264FA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E4CD6-F182-489F-BF19-9F6448E6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4D86A-3F84-4D72-AD44-492A0554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3EB40-0068-45F1-8A9C-BF3E1E3C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DCF04-2551-4C3B-BFB4-0E982B28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C36-C35D-4715-9110-627ED7C5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EACC0-30B7-460F-B321-C06E19DD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7B591-638B-427B-884D-1981D1E1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E70EA-EEDA-4B67-82E8-2BE5A0C9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7CFBC-C48F-40FB-AC50-9F6BC9EB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631E4-4DBD-4EC7-8EF8-E786B8CE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BA37B-1224-4A48-B8C0-2C0080F6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B7038-3FBC-446A-A76F-F137952A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7AE6C-1A3E-41E9-9525-310947C6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36674-C41D-47FC-B3D4-FC4BBCC5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470EC-D5B1-49A2-B6D2-DEC03E0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345-C3A0-4974-A8A0-700DE40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29493-545E-4BFD-BE80-94766623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5D77B-5941-45EB-BCCA-AED85943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78B24-E677-45BE-9882-893258FF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F6954-B24C-49C3-A364-DF73220D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98964-3503-40FF-9010-EDD4D81F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49BB6-FE36-420A-98BC-3F8508AE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B6832-832B-4DC6-8515-E253B971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02F14-FB00-47E8-B5BB-527A1D59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B50C2-336E-4C7B-A125-B7EF7F63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397CA-9A1A-4C23-9AF7-94CAA0CF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779-444D-4F69-B630-8BC72B5B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7B219-3B5A-42BE-94E4-CAF52546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89DEE-3CED-450D-8AB9-C0357A89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856B8-99EF-4A3F-837F-7360FD72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B7395-4F84-4031-BB46-2D07E071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19EA2-4223-4B82-B1DF-F1EFF9C9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A20B3-235E-4196-85F5-44D5E03D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9AE3B-044D-4A2E-8FAF-AD14DA53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A0948-73BD-4194-B546-7E39A3D4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4ECF2-4BB9-4D7B-A147-6E85AE72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47C8E-275B-46C9-8E52-0B431121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05F5-289C-48CE-A2BA-FAB93875D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0C70-FB41-42BC-8B64-5B7D79866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2D48-9165-41CB-A0B9-64D35CA4F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D02D-F622-494D-AEE7-FC49B222B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1435-4F54-4510-B60C-69A500B49D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E7F5-CE16-4EE6-84E6-4EC00D17E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7D4B-5872-4A5E-9032-2D9DBD3ABB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0CD6-0386-4C07-8A79-73C5376CA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D837-EE70-47E8-87F7-04AD23920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2595-16B0-40FF-BFCB-3BCF8CE94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9E32-B048-4257-8901-8AC3D006E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ED36-0829-443E-AE65-C56B03E98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ADE7-7578-49EE-B1F4-4467DF8D59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2ABB-618F-423F-9E71-C794E2091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AAE4-9668-4A7F-85D1-E5B9366A9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97BB-C828-4D92-8069-16661664B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CB73-2FC7-40A2-B8CD-41F0C4AE3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C1B0-C8FD-41B4-AB3F-C958BDB0B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7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7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1F54-F086-4F61-A1A6-AB9D507DD91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07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7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8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8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1730-D3FC-4CB1-89B0-7B538A4F76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8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8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8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1615-F2E6-435C-AB00-313FED6A80D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8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8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8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D53A-3F2A-4885-8678-CE6775CC64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7D88-E793-499F-9D2B-9AAD66D7BE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8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sldNum" idx="8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C63C-AE55-41C8-95D9-C8246B4F696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ftr" idx="9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9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sldNum" idx="9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4DD3-9A60-40EE-BFFA-863470A30D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ftr" idx="9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07F-C9BD-44FD-BE9C-AD1BB9652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7248-BC18-4762-A3EA-1B15404BD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6DE1-D8B9-404B-8DB2-EACCF4D712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A3E6-AA50-498D-86E1-920F56410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3E7C-736E-4757-B0AF-CA188B4B2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48E6-BE8A-441D-BF86-03919DCC5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0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ix4MGt18zRAhUBshQKHSYED2cQjRwIBw&amp;url=http%3A%2F%2Fwww.hrvatski-fokus.hr%2Findex.php%2Fdrustvo%2F16874-aforizmi-hypokrat-stari-birokrat&amp;psig=AFQjCNFfH1rLQ9c7VzfeikKhTdtvLArx1Q&amp;ust=1484861873521901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rowallia New"/>
              </a:rPr>
              <a:t>ЗДРАВСТВЕНИ ИНФОРМАЦИОНИ СИСТЕМИ </a:t>
            </a:r>
            <a:br>
              <a:rPr sz="32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06" name="Picture 6" descr="C:\Users\Mirjana Petrovic\Desktop\images.jpg"/>
          <p:cNvPicPr/>
          <p:nvPr/>
        </p:nvPicPr>
        <p:blipFill>
          <a:blip r:embed="rId1"/>
          <a:stretch/>
        </p:blipFill>
        <p:spPr>
          <a:xfrm>
            <a:off x="4724280" y="3489480"/>
            <a:ext cx="3733920" cy="29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7" name="Picture 7" descr="C:\Users\Mirjana Petrovic\Desktop\ZK_zveza-potrosnikov.jpg"/>
          <p:cNvPicPr/>
          <p:nvPr/>
        </p:nvPicPr>
        <p:blipFill>
          <a:blip r:embed="rId2"/>
          <a:stretch/>
        </p:blipFill>
        <p:spPr>
          <a:xfrm>
            <a:off x="685800" y="3471840"/>
            <a:ext cx="3809880" cy="300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8" name="Picture 4" descr="Logotip Medicinski monohroamtski"/>
          <p:cNvPicPr/>
          <p:nvPr/>
        </p:nvPicPr>
        <p:blipFill>
          <a:blip r:embed="rId3"/>
          <a:stretch/>
        </p:blipFill>
        <p:spPr>
          <a:xfrm>
            <a:off x="3657600" y="1219320"/>
            <a:ext cx="1630440" cy="209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документација у Републици Срб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457200" y="1828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упљање, чување и дистрибуција података у систему здравствене заштите Републике Србије уређени су закон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Picture 4" descr="C:\Users\Mirjana Petrovic\Desktop\176.jpg"/>
          <p:cNvPicPr/>
          <p:nvPr/>
        </p:nvPicPr>
        <p:blipFill>
          <a:blip r:embed="rId1"/>
          <a:stretch/>
        </p:blipFill>
        <p:spPr>
          <a:xfrm>
            <a:off x="3581280" y="2971800"/>
            <a:ext cx="512136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2590920" y="1890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ЗДРАВСТВЕНОЈ ЗАШТ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„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и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,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. 107/05 , 72/09 - др. закон, 88/10 , 99/10 , 57/11 , 119/12 , 45/13 - др. закон, 93/14 , 96/15 , 106/1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8"/>
          <p:cNvSpPr/>
          <p:nvPr/>
        </p:nvSpPr>
        <p:spPr>
          <a:xfrm>
            <a:off x="934920" y="256428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ЗАКОН О  ЗДРАВСТВЕНОЈ ДОКУМЕНТАЦИЈ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ЕВИДЕНЦИЈАМА У ОБЛАСТИ ЗДРА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 123/14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106/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9"/>
          <p:cNvSpPr/>
          <p:nvPr/>
        </p:nvSpPr>
        <p:spPr>
          <a:xfrm>
            <a:off x="250920" y="3789360"/>
            <a:ext cx="8713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РАВИЛНИ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обрасцима и садржају образаца за вођењe здравствене документације, евиденција, извештаја, регистара и електронског медицинског досије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9/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9"/>
          <p:cNvSpPr/>
          <p:nvPr/>
        </p:nvSpPr>
        <p:spPr>
          <a:xfrm>
            <a:off x="2327400" y="5877000"/>
            <a:ext cx="5184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8920" bIns="88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ЈАВНОМ ЗДРАВЉ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 15/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0"/>
          <p:cNvSpPr/>
          <p:nvPr/>
        </p:nvSpPr>
        <p:spPr>
          <a:xfrm>
            <a:off x="539640" y="5013360"/>
            <a:ext cx="842508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8920" bIns="88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ПРАВИМА ПАЦИЈЕН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 45/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1"/>
          <p:cNvSpPr/>
          <p:nvPr/>
        </p:nvSpPr>
        <p:spPr>
          <a:xfrm>
            <a:off x="2340000" y="182196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АТИСТИЧКИМ ИСТРАЖ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", бр. 83/92, 53/93, 67/93, 48/94 и 101/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11" descr="C:\Users\Mirjana Petrovic\Desktop\120.jpg"/>
          <p:cNvPicPr/>
          <p:nvPr/>
        </p:nvPicPr>
        <p:blipFill>
          <a:blip r:embed="rId1"/>
          <a:stretch/>
        </p:blipFill>
        <p:spPr>
          <a:xfrm>
            <a:off x="228600" y="609480"/>
            <a:ext cx="2292480" cy="152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Ј ДОКУМЕНТАЦИЈИ И  Е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НЦИЈАМ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АСТИ ЗДРАВСТВ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200"/>
            </a:br>
            <a:br>
              <a:rPr sz="2200"/>
            </a:b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ује с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0" y="2057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документација и евиденције 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сти здравс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и садржина здравствене документације и евиденциј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 поступак вођењ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овлашћена за вођење здравствене документације и унос податак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ви за достављање и обраду податак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располагања подацима из медицинске документације пацијената која се користи за обраду податак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ђивање квалитет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штите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увања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ак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питања од значаја за вођење здравствене документације и евиденциј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228600" y="603360"/>
            <a:ext cx="8734320" cy="62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установ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атна пракс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е социјалне заштит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и за извршење заводских санкциј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и здравствене струке који обављају одређене послове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делатност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правна лица која обављају одређене послове здравствене делатности у складу са законом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ни су да воде здравствену документацију и евиденцију и да у прописаним роковима достављају индивидуалне, збирне и  периодичне извештаје надлежном заводу, односно институту за јавно  здравље, као и другим организацијама на начин прописан посебним Законом,.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43" name="Picture 3" descr="C:\Users\Mirjana Petrovic\Desktop\5-3.jpg"/>
          <p:cNvPicPr/>
          <p:nvPr/>
        </p:nvPicPr>
        <p:blipFill>
          <a:blip r:embed="rId1"/>
          <a:stretch/>
        </p:blipFill>
        <p:spPr>
          <a:xfrm>
            <a:off x="6705720" y="457200"/>
            <a:ext cx="160020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ЗДРАВСТВЕНОЈ ЗАШТИТИ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228240" y="14475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рантована је тајност података из медицинске документације пацијената која се обрађује и доставља за индивидуалне, збирне и периодичне извештаје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установа, приватна пракса, као и друга правна лица дужна су да чувају медицинску документацију пацијената од неовлашћеног приступа, копирања и злоупотребе, независно од облика у коме су подаци из медицинске документације сачувани (папир, микрофилм, оптички и ласер дискови, магнетни медији и др), у складу са законом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ђење здравствене документације и унос података у здравствену документацију искључиво обављају овлашћена лица, у складу са законом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служи евиденција у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здравствене заштите?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здравственог стања пацијен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 проучавање здравственог стања становништв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звршавања обавеза свих субјеката у области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ресурса у области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 стално унапређење квалитета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Финансирање здравствене заштит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ланирање и програмирање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 оцењивање спровођења планова и програма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Спровођење статистичких и научних истраживања; информисање јавност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Извршавање међународних обавеза у области здравства и  за развој система здравствене заштите и здравственог осигурањ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 документ је сваки документ настао у здравственој установи, који садржи податке о здравственом стању пацијента, као и о начину пружања здравствене заштите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свих писаних или на други начин приређених докумената (на електронском медију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49" name="Picture 11" descr="ANd9GcT17j7RDTNzdI9n0rziNN2JjqivYTHZjAMPI7FY3KO_xHPF1MU-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0" name="Picture 4" descr="C:\Users\Mirjana Petrovic\Desktop\unnamed (4).jpg"/>
          <p:cNvPicPr/>
          <p:nvPr/>
        </p:nvPicPr>
        <p:blipFill>
          <a:blip r:embed="rId2"/>
          <a:stretch/>
        </p:blipFill>
        <p:spPr>
          <a:xfrm>
            <a:off x="6248520" y="5105520"/>
            <a:ext cx="2895480" cy="154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 txBox="1"/>
          <p:nvPr/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Информациони систем”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је свеобухватни скуп технолошке инфраструктуре (мрежне, софтверске и хардверске компоненте), организације, људи и поступака за прикупљање, смештање, обраду, чување, пренос, приказивање и коришћење података и информација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52" name="Picture 3" descr="C:\Users\Mirjana Petrovic\Desktop\medicinska-dokumentacija-big.jpg"/>
          <p:cNvPicPr/>
          <p:nvPr/>
        </p:nvPicPr>
        <p:blipFill>
          <a:blip r:embed="rId1"/>
          <a:stretch/>
        </p:blipFill>
        <p:spPr>
          <a:xfrm>
            <a:off x="5257800" y="3886200"/>
            <a:ext cx="3352680" cy="223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ЗДРАВСТВЕНОЈ ЗАШТИТИ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0" y="1341360"/>
            <a:ext cx="91440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и здравствени информациони систе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 планирања и ефикасног управљања системом здравствене заштите, као и прикупљања и обраде података у вези са здравственим стањем становништва и функционисањем здравствене службе, односно прикупљања и обраде здравствених информација, организује се и развија интегрисани здравствени информациони систем у Републиц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 рада, развоја и организације интегрисаног здравственог информационог система, као и садржај здравствених информација доноси Влад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ДОКУМЕНТАЦИЈА И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ИДЕНЦИ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4568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документација и 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нциј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воде уписивањем података у основну здравствену документацију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моћна средства за вођење евиденциј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сновне здравствене документације и евиденција и помоћних средстава за вођење евиденција израђују  се  индивидуални и збирни извештај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генеришу из дневне и месечне евиденције података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57" name="Picture 2" descr="D:\Users\Mirjana Janicijevic\Desktop\zdravstvena-zastita-odrasli-800x250.jpg"/>
          <p:cNvPicPr/>
          <p:nvPr/>
        </p:nvPicPr>
        <p:blipFill>
          <a:blip r:embed="rId1"/>
          <a:stretch/>
        </p:blipFill>
        <p:spPr>
          <a:xfrm>
            <a:off x="4648320" y="5224320"/>
            <a:ext cx="4190760" cy="13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т медицинске документациј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10" name="Picture 3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2095560" cy="287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1" name="Picture 2" descr=""/>
          <p:cNvPicPr/>
          <p:nvPr/>
        </p:nvPicPr>
        <p:blipFill>
          <a:blip r:embed="rId2"/>
          <a:stretch/>
        </p:blipFill>
        <p:spPr>
          <a:xfrm>
            <a:off x="6705720" y="4648320"/>
            <a:ext cx="209556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2" name="Rectangle 3"/>
          <p:cNvSpPr/>
          <p:nvPr/>
        </p:nvSpPr>
        <p:spPr>
          <a:xfrm>
            <a:off x="0" y="1684440"/>
            <a:ext cx="693432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г. п.н.е. Месопотамија „колевка цивилизације“, писано клинастим писмом на глиненим плочицама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800 глинених плоча посвећено  медици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лочици пронађеној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</a:t>
            </a:r>
            <a:r>
              <a:rPr b="0" lang="sr-R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Нипуру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јстарији писани медицински документ)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бележено неколико рецепата за лечењ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3000 г. п.н.е. староегипатска култура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а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пируси Кахуански, Еберсов и Смитов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6" descr=""/>
          <p:cNvPicPr/>
          <p:nvPr/>
        </p:nvPicPr>
        <p:blipFill>
          <a:blip r:embed="rId3"/>
          <a:stretch/>
        </p:blipFill>
        <p:spPr>
          <a:xfrm>
            <a:off x="2514600" y="5105520"/>
            <a:ext cx="3429000" cy="149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447560" y="53352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дивидуални извештај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380880" y="1523880"/>
            <a:ext cx="87631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извештај”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евиденција  личних и медицинских података о пацијенту  или појединачних података о ресурсима  здравственог система, о здравственој установи, приватној пракси и другим правним  лицим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sr-R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бирни извештај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ирни извештај”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евиденција збирних  података који могу да се односе на пацијенте,  ресурсе здравственог система, здравствене установе, приватну праксу и друга правна лиц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-380880" y="76212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к 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формација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1" name="AutoShape 32"/>
          <p:cNvSpPr/>
          <p:nvPr/>
        </p:nvSpPr>
        <p:spPr>
          <a:xfrm>
            <a:off x="6948360" y="393372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AutoShape 5"/>
          <p:cNvSpPr/>
          <p:nvPr/>
        </p:nvSpPr>
        <p:spPr>
          <a:xfrm>
            <a:off x="7380360" y="1557360"/>
            <a:ext cx="2168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3" name="Group 34"/>
          <p:cNvGrpSpPr/>
          <p:nvPr/>
        </p:nvGrpSpPr>
        <p:grpSpPr>
          <a:xfrm>
            <a:off x="3657600" y="765000"/>
            <a:ext cx="5729040" cy="5430240"/>
            <a:chOff x="3657600" y="765000"/>
            <a:chExt cx="5729040" cy="5430240"/>
          </a:xfrm>
        </p:grpSpPr>
        <p:grpSp>
          <p:nvGrpSpPr>
            <p:cNvPr id="1364" name="Group 44"/>
            <p:cNvGrpSpPr/>
            <p:nvPr/>
          </p:nvGrpSpPr>
          <p:grpSpPr>
            <a:xfrm>
              <a:off x="6516720" y="1413000"/>
              <a:ext cx="2869920" cy="4782240"/>
              <a:chOff x="6516720" y="1413000"/>
              <a:chExt cx="2869920" cy="4782240"/>
            </a:xfrm>
          </p:grpSpPr>
          <p:pic>
            <p:nvPicPr>
              <p:cNvPr id="1365" name="Picture 34" descr="j0299125"/>
              <p:cNvPicPr/>
              <p:nvPr/>
            </p:nvPicPr>
            <p:blipFill>
              <a:blip r:embed="rId1"/>
              <a:stretch/>
            </p:blipFill>
            <p:spPr>
              <a:xfrm>
                <a:off x="7602840" y="1413000"/>
                <a:ext cx="1009080" cy="143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Rectangle 39"/>
              <p:cNvSpPr/>
              <p:nvPr/>
            </p:nvSpPr>
            <p:spPr>
              <a:xfrm>
                <a:off x="6516720" y="5796720"/>
                <a:ext cx="2869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Институт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а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јавно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дравље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РС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7" name="Group 47"/>
            <p:cNvGrpSpPr/>
            <p:nvPr/>
          </p:nvGrpSpPr>
          <p:grpSpPr>
            <a:xfrm>
              <a:off x="3657600" y="765000"/>
              <a:ext cx="3363480" cy="5040000"/>
              <a:chOff x="3657600" y="765000"/>
              <a:chExt cx="3363480" cy="5040000"/>
            </a:xfrm>
          </p:grpSpPr>
          <p:pic>
            <p:nvPicPr>
              <p:cNvPr id="1368" name="Picture 30" descr="j0205462"/>
              <p:cNvPicPr/>
              <p:nvPr/>
            </p:nvPicPr>
            <p:blipFill>
              <a:blip r:embed="rId2"/>
              <a:stretch/>
            </p:blipFill>
            <p:spPr>
              <a:xfrm>
                <a:off x="5252400" y="765000"/>
                <a:ext cx="1622520" cy="16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9" name="Rectangle 37"/>
              <p:cNvSpPr/>
              <p:nvPr/>
            </p:nvSpPr>
            <p:spPr>
              <a:xfrm>
                <a:off x="3657600" y="5398200"/>
                <a:ext cx="3363480" cy="40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Регионални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авод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Институт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а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јавно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дравље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0" name="Group 32"/>
          <p:cNvGrpSpPr/>
          <p:nvPr/>
        </p:nvGrpSpPr>
        <p:grpSpPr>
          <a:xfrm>
            <a:off x="-228600" y="1066680"/>
            <a:ext cx="7184880" cy="4564080"/>
            <a:chOff x="-228600" y="1066680"/>
            <a:chExt cx="7184880" cy="4564080"/>
          </a:xfrm>
        </p:grpSpPr>
        <p:sp>
          <p:nvSpPr>
            <p:cNvPr id="1371" name="Rectangle 7"/>
            <p:cNvSpPr/>
            <p:nvPr/>
          </p:nvSpPr>
          <p:spPr>
            <a:xfrm>
              <a:off x="152280" y="2867040"/>
              <a:ext cx="2050920" cy="180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ЗДРАВСТВЕНА ДОКУМЕНТАЦИЈА И ЕВИДЕНЦИЈ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3399"/>
                </a:buClr>
                <a:buSzPct val="6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AutoShape 8"/>
            <p:cNvSpPr/>
            <p:nvPr/>
          </p:nvSpPr>
          <p:spPr>
            <a:xfrm>
              <a:off x="2276280" y="3298680"/>
              <a:ext cx="917640" cy="504720"/>
            </a:xfrm>
            <a:custGeom>
              <a:avLst/>
              <a:gdLst>
                <a:gd name="textAreaLeft" fmla="*/ 142920 w 917640"/>
                <a:gd name="textAreaRight" fmla="*/ 803520 w 91764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3" name="Picture 28" descr="j0235319"/>
            <p:cNvPicPr/>
            <p:nvPr/>
          </p:nvPicPr>
          <p:blipFill>
            <a:blip r:embed="rId3"/>
            <a:stretch/>
          </p:blipFill>
          <p:spPr>
            <a:xfrm>
              <a:off x="403200" y="1066680"/>
              <a:ext cx="1511280" cy="14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Rectangle 36"/>
            <p:cNvSpPr/>
            <p:nvPr/>
          </p:nvSpPr>
          <p:spPr>
            <a:xfrm>
              <a:off x="-228600" y="5270400"/>
              <a:ext cx="2663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Здравствене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установ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AutoShape 9"/>
            <p:cNvSpPr/>
            <p:nvPr/>
          </p:nvSpPr>
          <p:spPr>
            <a:xfrm>
              <a:off x="3571920" y="3227400"/>
              <a:ext cx="1873080" cy="59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3399"/>
                  </a:solidFill>
                  <a:latin typeface="Times New Roman"/>
                </a:rPr>
                <a:t>Индивидуал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AutoShape 10"/>
            <p:cNvSpPr/>
            <p:nvPr/>
          </p:nvSpPr>
          <p:spPr>
            <a:xfrm>
              <a:off x="3546360" y="3801960"/>
              <a:ext cx="15858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3399"/>
                  </a:solidFill>
                  <a:latin typeface="Times New Roman"/>
                </a:rPr>
                <a:t>Збирни периодич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"/>
            <p:cNvSpPr/>
            <p:nvPr/>
          </p:nvSpPr>
          <p:spPr>
            <a:xfrm>
              <a:off x="3211560" y="2722320"/>
              <a:ext cx="3981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Ш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Ј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8" name="Picture 33" descr="j0195384"/>
            <p:cNvPicPr/>
            <p:nvPr/>
          </p:nvPicPr>
          <p:blipFill>
            <a:blip r:embed="rId4"/>
            <a:stretch/>
          </p:blipFill>
          <p:spPr>
            <a:xfrm>
              <a:off x="5803920" y="3370320"/>
              <a:ext cx="11523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AutoShape 49"/>
            <p:cNvSpPr/>
            <p:nvPr/>
          </p:nvSpPr>
          <p:spPr>
            <a:xfrm>
              <a:off x="5155920" y="4017960"/>
              <a:ext cx="576360" cy="288720"/>
            </a:xfrm>
            <a:prstGeom prst="rightArrow">
              <a:avLst>
                <a:gd name="adj1" fmla="val 50000"/>
                <a:gd name="adj2" fmla="val 499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Group 33"/>
          <p:cNvGrpSpPr/>
          <p:nvPr/>
        </p:nvGrpSpPr>
        <p:grpSpPr>
          <a:xfrm>
            <a:off x="7315200" y="3441600"/>
            <a:ext cx="2057400" cy="3416400"/>
            <a:chOff x="7315200" y="3441600"/>
            <a:chExt cx="2057400" cy="3416400"/>
          </a:xfrm>
        </p:grpSpPr>
        <p:sp>
          <p:nvSpPr>
            <p:cNvPr id="1381" name="AutoShape 35"/>
            <p:cNvSpPr/>
            <p:nvPr/>
          </p:nvSpPr>
          <p:spPr>
            <a:xfrm>
              <a:off x="7315200" y="3441600"/>
              <a:ext cx="1744560" cy="166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Обр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убликовањ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2" name="Picture 31" descr="logo"/>
            <p:cNvPicPr/>
            <p:nvPr/>
          </p:nvPicPr>
          <p:blipFill>
            <a:blip r:embed="rId5"/>
            <a:stretch/>
          </p:blipFill>
          <p:spPr>
            <a:xfrm>
              <a:off x="8832960" y="631836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rowallia New"/>
              </a:rPr>
              <a:t>ДОКУМЕНТАЦИЈА И ЕВИДЕНЦИЈА, ИЗВЕШТАВАЊЕ У ОБЛАСТИ ПРИМАРНЕ ЗДРАВСТВЕНЕ ЗАШТИТ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84" name="Picture 5" descr="C:\Users\Mirjana Petrovic\Desktop\unnamed (1).jpg"/>
          <p:cNvPicPr/>
          <p:nvPr/>
        </p:nvPicPr>
        <p:blipFill>
          <a:blip r:embed="rId1"/>
          <a:stretch/>
        </p:blipFill>
        <p:spPr>
          <a:xfrm>
            <a:off x="1828800" y="3505320"/>
            <a:ext cx="5477040" cy="295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86" name="Group 33"/>
          <p:cNvGrpSpPr/>
          <p:nvPr/>
        </p:nvGrpSpPr>
        <p:grpSpPr>
          <a:xfrm>
            <a:off x="6324480" y="1523880"/>
            <a:ext cx="1094040" cy="4680000"/>
            <a:chOff x="6324480" y="1523880"/>
            <a:chExt cx="1094040" cy="4680000"/>
          </a:xfrm>
        </p:grpSpPr>
        <p:sp>
          <p:nvSpPr>
            <p:cNvPr id="1387" name="Rectangle 24"/>
            <p:cNvSpPr/>
            <p:nvPr/>
          </p:nvSpPr>
          <p:spPr>
            <a:xfrm>
              <a:off x="6324480" y="1523880"/>
              <a:ext cx="1094040" cy="4680000"/>
            </a:xfrm>
            <a:prstGeom prst="rect">
              <a:avLst/>
            </a:prstGeom>
            <a:noFill/>
            <a:ln w="9360">
              <a:solidFill>
                <a:srgbClr val="9b2d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WordArt 26"/>
            <p:cNvSpPr txBox="1"/>
            <p:nvPr/>
          </p:nvSpPr>
          <p:spPr>
            <a:xfrm rot="16200000">
              <a:off x="5578920" y="3504960"/>
              <a:ext cx="2793960" cy="61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Times New Roman"/>
                </a:rPr>
                <a:t>ИЗВЕШТАЈИ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389" name="Group 35"/>
          <p:cNvGrpSpPr/>
          <p:nvPr/>
        </p:nvGrpSpPr>
        <p:grpSpPr>
          <a:xfrm>
            <a:off x="990720" y="4419720"/>
            <a:ext cx="5479560" cy="1154160"/>
            <a:chOff x="990720" y="4419720"/>
            <a:chExt cx="5479560" cy="1154160"/>
          </a:xfrm>
        </p:grpSpPr>
        <p:sp>
          <p:nvSpPr>
            <p:cNvPr id="1390" name="Rectangle 21"/>
            <p:cNvSpPr/>
            <p:nvPr/>
          </p:nvSpPr>
          <p:spPr>
            <a:xfrm>
              <a:off x="990720" y="4419720"/>
              <a:ext cx="4419360" cy="115416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МОЋНА СРЕДСТА З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ВОЂЕЊЕ ЕВИДЕНЦИ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28"/>
            <p:cNvSpPr/>
            <p:nvPr/>
          </p:nvSpPr>
          <p:spPr>
            <a:xfrm flipV="1">
              <a:off x="4983840" y="4624200"/>
              <a:ext cx="1486440" cy="2876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Group 34"/>
          <p:cNvGrpSpPr/>
          <p:nvPr/>
        </p:nvGrpSpPr>
        <p:grpSpPr>
          <a:xfrm>
            <a:off x="1066680" y="2057400"/>
            <a:ext cx="5492520" cy="1171440"/>
            <a:chOff x="1066680" y="2057400"/>
            <a:chExt cx="5492520" cy="1171440"/>
          </a:xfrm>
        </p:grpSpPr>
        <p:sp>
          <p:nvSpPr>
            <p:cNvPr id="1393" name="Rectangle 20"/>
            <p:cNvSpPr/>
            <p:nvPr/>
          </p:nvSpPr>
          <p:spPr>
            <a:xfrm>
              <a:off x="1066680" y="2057400"/>
              <a:ext cx="4267800" cy="117144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ОСНОВНА МЕДИЦИНС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ДОКУМЕНТА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Line 27"/>
            <p:cNvSpPr/>
            <p:nvPr/>
          </p:nvSpPr>
          <p:spPr>
            <a:xfrm>
              <a:off x="5028840" y="2361960"/>
              <a:ext cx="1530360" cy="792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5"/>
          <p:cNvSpPr/>
          <p:nvPr/>
        </p:nvSpPr>
        <p:spPr>
          <a:xfrm>
            <a:off x="324000" y="1449360"/>
            <a:ext cx="85914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00000"/>
                </a:solidFill>
                <a:uFillTx/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</a:rPr>
              <a:t>ОСНОВНА МЕДИЦИНСКА ДОКУМ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дравствени кар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н обавезне имун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њига евид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09040" cy="29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7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97" name="Picture 4" descr=""/>
          <p:cNvPicPr/>
          <p:nvPr/>
        </p:nvPicPr>
        <p:blipFill>
          <a:blip r:embed="rId1"/>
          <a:stretch/>
        </p:blipFill>
        <p:spPr>
          <a:xfrm>
            <a:off x="5486400" y="3352680"/>
            <a:ext cx="3429000" cy="233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5"/>
          <p:cNvSpPr/>
          <p:nvPr/>
        </p:nvSpPr>
        <p:spPr>
          <a:xfrm>
            <a:off x="304920" y="1877400"/>
            <a:ext cx="861696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c00000"/>
                </a:solidFill>
                <a:uFillTx/>
                <a:latin typeface="Times New Roman"/>
              </a:rPr>
              <a:t>Здравствени карто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новни медицински документ који се во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изабраног лекара по областима здравствене заштите, за сваког пацијента коме се пружа здравствена заштита, осим за пролазне пацијен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 картон прати сваког пацијента током целог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ачност податка који се налазе у здравственом картону одговаран је изабрани лекар, односно  лекар специјалиста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га је изабрани лекар пренео овлашћењ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013960" cy="1054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30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5"/>
          <p:cNvSpPr/>
          <p:nvPr/>
        </p:nvSpPr>
        <p:spPr>
          <a:xfrm>
            <a:off x="0" y="775800"/>
            <a:ext cx="914400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7f7f7f"/>
                </a:solidFill>
                <a:uFillTx/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   </a:t>
            </a:r>
            <a:r>
              <a:rPr b="1" lang="sr-RS" sz="28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А МЕДИЦИНСКА ДОКУМ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дравствени картон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 води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областима здравствене заш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опште медицине и медицине ра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здравствене заштите ж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здравствене заштите предшколске де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здравствене заштите школске деце и омлад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пнеумофтизиолошке заштит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поливалентне патронаже (Здравствени картон породице и патронажни лис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стоматолошке здравствене зашти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524720" cy="1065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30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5"/>
          <p:cNvSpPr/>
          <p:nvPr/>
        </p:nvSpPr>
        <p:spPr>
          <a:xfrm>
            <a:off x="228600" y="574200"/>
            <a:ext cx="891540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7f7f7f"/>
                </a:solidFill>
                <a:uFillTx/>
                <a:latin typeface="Times New Roman"/>
              </a:rPr>
              <a:t>        </a:t>
            </a: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А МЕДИЦИНСКА ДОКУМ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н обавезне имунизације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 се за децу која се обавезно вакцинишу, сагласно прописима о заштити становништва од заразних болести, као и програму обавезних имунизација становништва против заразних болест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 се отвара приликом давања прве вакцине дет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 прати дете до 18. године живота, односно до потпуног спровођења програма обавезних имунизација становништва против заразних бол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ачност податка који се налазе у картону имунизације одговаран је надлежни здравствени рад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01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</a:t>
            </a:r>
            <a:r>
              <a:rPr b="1" lang="sr-R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ЗАШТИТА</a:t>
            </a:r>
            <a:br>
              <a:rPr sz="27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2"/>
          <p:cNvSpPr/>
          <p:nvPr/>
        </p:nvSpPr>
        <p:spPr>
          <a:xfrm>
            <a:off x="0" y="566640"/>
            <a:ext cx="914400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 u="sng">
                <a:solidFill>
                  <a:srgbClr val="d34817"/>
                </a:solidFill>
                <a:uFillTx/>
                <a:latin typeface="Times New Roman"/>
              </a:rPr>
              <a:t>ОСНОВНА МЕДИЦИНСКА ДОКУМЕНТАЦИЈ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Води се у здр. установама, приватној пракси и другом правном лицу при пружању здравствених услуга и предузимању медицинских мера када се за пацијента не отвара здравствени картон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За пролазне пације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интревен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У специ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листичко-консултативним служб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Хитне медицинске помо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У дијагностичким службама (лабораторија, рентген,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здравствену не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кућне посете здравствених рад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При обављању здравствено васпитног 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У случају прегледа лица ради издавања лекарских увере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За регистровање нежељених реакција на лекове и медицинска сре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скринин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5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2"/>
          <p:cNvSpPr/>
          <p:nvPr/>
        </p:nvSpPr>
        <p:spPr>
          <a:xfrm>
            <a:off x="228600" y="929880"/>
            <a:ext cx="891540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СНОВНА МЕДИЦИНСКА ДОКУ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њиге евиденциј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приликом утврђивања одређених болести или стања, као и пружања здравствених услуга и воде с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вези 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разних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болести већег јавно -здравственог знач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 стерилиз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м догађај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и занемаривање де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и занемаривање  стар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 лица која су лишена слободе у складу са зако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931160" cy="99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т медицинске документациј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250560" y="1828440"/>
            <a:ext cx="8512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у познату медицинску документацију  развио ј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крат у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у п.н.е., циљеви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цинска  документација треба тачно да рефлектује  ток болести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е на могуће узроке болести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папирне медицинске документације  кретао се паралелно  с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ем медицинске науке и образовања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вештају о медицинском  образовању из 1910.  године,  први  пут су формално представљени  функција  и садржаји медицинске документације, и лекари су охрабривани да чувају податке о пацијенту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17" name="Picture 7" descr="Резултат слика за hipokr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8360" y="225360"/>
            <a:ext cx="171756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752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МОЋНА СРЕДСТВА ЗА ВОЂЕЊЕ ЕВИДЕНЦ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менти који се користе да би се олакшало добија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ака о протоку пацијената и сачињавали извештаји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ар картотек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а евиденција о посетама и рад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ћа евиденција о утврђеним обољењима и ста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иденција заказивања прегледа, дијагностичких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и других медицинских мера и поступак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2"/>
          <p:cNvSpPr/>
          <p:nvPr/>
        </p:nvSpPr>
        <p:spPr>
          <a:xfrm>
            <a:off x="152280" y="1765080"/>
            <a:ext cx="89917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0000"/>
                </a:solidFill>
                <a:uFillTx/>
                <a:latin typeface="Times New Roman"/>
              </a:rPr>
              <a:t>ПОМОЋНА СРЕДСТВА ЗА ВОЂЕЊЕ ЕВИДЕНЦИЈ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истар картот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оди се као азбучни регистар  (азбучним редом по презимену и имену, према броју здравственог карто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установа која води здравствене карт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31160" cy="807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5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12" name="Picture 4" descr="D:\Users\Mirjana Janicijevic\Desktop\3364042_2019021903020_5c6b634eb789684ea0003910jpeg_ls.jpg"/>
          <p:cNvPicPr/>
          <p:nvPr/>
        </p:nvPicPr>
        <p:blipFill>
          <a:blip r:embed="rId1"/>
          <a:stretch/>
        </p:blipFill>
        <p:spPr>
          <a:xfrm>
            <a:off x="6095880" y="4800600"/>
            <a:ext cx="2743200" cy="18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ПРИМАРНА ЗДРАВСТВЕНА ЗАШТИТА</a:t>
            </a:r>
            <a:br>
              <a:rPr sz="2400"/>
            </a:b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МОЋНА СРЕДСТВА ЗА ВОЂЕЊЕ ЕВИДЕНЦИЈЕ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0" y="2438280"/>
            <a:ext cx="91440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невна евиденција о посетама и раду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сетама и раду и служи за евидентирање свих посета остварених у једном дану (прве и поновне), а на основу којих се сачињавају месечни, квартални и годишњи збирни извештаји, и води се у установама које пружају ванболничку и специјалистичко-консултативну здравствену заштит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075520" cy="122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МОЋНА СРЕДСТВА ЗА ВОЂЕЊЕ ЕВИДЕНЦИЈЕ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0" y="17524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кућа евиденција о утврђеним обољењима и стањи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 се о утврђеним обољењима и стањима и служи за евидентирање свих завршних дијагноза постављених у једном дану (епизода лечења), а на основу којих се сачињавају месечни, квартални и годишњи збирни извештаји и води се у установама које пружају ванболничку и специјалистичко-консултативну здравствену заштиту.</a:t>
            </a:r>
            <a:br>
              <a:rPr sz="2600"/>
            </a:b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17" name="Picture 2" descr="D:\Users\Mirjana Janicijevic\Desktop\5844489_pixjpg.jpg"/>
          <p:cNvPicPr/>
          <p:nvPr/>
        </p:nvPicPr>
        <p:blipFill>
          <a:blip r:embed="rId1"/>
          <a:stretch/>
        </p:blipFill>
        <p:spPr>
          <a:xfrm>
            <a:off x="6019920" y="4419720"/>
            <a:ext cx="285732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8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04560" y="14479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виденција заказивања прегледа, дијагностичких процедура и других медицинских мера и поступак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и се за здравствене услуге за које не постоје услови да се пруже одмах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20" name="Picture 5" descr="C:\Users\Mirjana Petrovic\Desktop\zdravstvena-zastita-u-domovima-za-stare-542bd.jpg"/>
          <p:cNvPicPr/>
          <p:nvPr/>
        </p:nvPicPr>
        <p:blipFill>
          <a:blip r:embed="rId1"/>
          <a:stretch/>
        </p:blipFill>
        <p:spPr>
          <a:xfrm>
            <a:off x="3927600" y="3429000"/>
            <a:ext cx="4759200" cy="316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793116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228600" y="19051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установе, приватна пракса и друга правна лица дужна су да на основу здравствене документације и евиденција коју воде, сачине и доставе прописане индивидуалне и збирне извештаје надлежном заводу, односно институту за јавно здравље и организацији здравственог осигурања у роковима утврђеним законом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ачност података у извештајима одговоран је надлежни здравствени радник, односно здравствени сарадник и друго овлашћено лице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24" name="Diagram 1" descr=""/>
          <p:cNvPicPr/>
          <p:nvPr/>
        </p:nvPicPr>
        <p:blipFill>
          <a:blip r:embed="rId1"/>
          <a:stretch/>
        </p:blipFill>
        <p:spPr>
          <a:xfrm>
            <a:off x="152280" y="1407960"/>
            <a:ext cx="8589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5344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звештај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ндивидуалн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250560" y="106668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извештај, пријава, пријава промене и одјава сачињава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малигних тумор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шећерне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ХБ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хроничних психоз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акутног коронарног синдро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болести зависно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цереброваскулар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са инвалидитетом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ретк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 и трауматизму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која су претрпела повреду на раду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професионал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и са сметњама у развоју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рлим особа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зараз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умрлим од зараз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ТБЦ-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звештај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ндивидуалн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250560" y="182844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извештај, пријава, пријава промене и одјава сачињава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ХИВ/АИДС-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анемаривање и злостављање деце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жен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ји заразне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вакциналним комликација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ма пружања здравствених услуг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м радницима, здравственим сарадницима и осталим запосленим (пријава, пријава промене, одјава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м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о-комуникационим технологија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 обољењима и стањима ако се утврди да су од значаја за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500"/>
            </a:br>
            <a:br>
              <a:rPr sz="25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Збирни извештаји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5720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посетама и рад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утврђеним обољењима и стањим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организационој структури, кадровима опреми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љи квалитета здравствене заштит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 txBox="1"/>
          <p:nvPr/>
        </p:nvSpPr>
        <p:spPr>
          <a:xfrm>
            <a:off x="22824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Документ је сваки материјални медиј који је носилац информација. Он је сведочанство неких чи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њ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еница, догађаја, предмета, појава или других облика људске делатности из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ажено у писму, графици, цртежу, слици, звучним записима, или у неком другом облику на одговарајућем материјалу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Вођење медицинске документације је законска обавеза свих здравствених радника јер се на тај начин обезбеђују  докази о предузетим активностима на лечењу пацијената, као и правна сигурност како корисника тако и даваоца здравствених услуга, да је за унапређење здравља пацијената предузето све што је потребно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и лица оболелих од болести и стања већег јавноздравственог значаја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и, односно институти за јавно здравље дужни су да воде регистре лица оболелих од болести и стања од већег јавно-здравственог значаја (на основу индивидуалних извештаја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ар се води за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лица оболела од малигних тумор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лица оболела од шећерне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лица оболела од хроничне бубрежне инсуфицијенције (укључујући и податке о дијализи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лица оболела од хроничне психозе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лица оболела од акутног коронарног синдром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лица оболела од болести зависно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лица оболела од цереброваскуларне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лица са инвалидитетом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лица оболела од ретких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лица са повредама и трауматизмом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) лица која су претрпела повреду на раду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) лица која су оболела од професионалне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 децу са сметњом у развоју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) лица код којих је извршена трансплантација (органа, ткива, ћелија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) лица оболела од туберкулозе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) лица оболела од ХИВ/АИДС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) лица у програму биомедицински потпомогнуте оплодње - БМПО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) лица оболела од друге болести ако се утврди да су од значаја за здравље становништв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ЉАЊЕ ИЗВЕШТАЈА</a:t>
            </a:r>
            <a:endParaRPr b="0" lang="en-US" sz="2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228600" y="19047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установе, приватна пракса и друга правна лица дужни су да индивидуалне извештаје достављају надлежном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у/институту за јавно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најкасније до десетог у месецу за претходни месец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оболелим од заразних болести 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ставља се одма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евидентирању болест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е збирне извештаје  достављају квартално надлежном заводу, односно институту за јавно здравље, најкасније до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у месецу за претходни квартал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35" name="Picture 2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43828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-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ЉАЊЕ ИЗВЕШТАЈА</a:t>
            </a:r>
            <a:endParaRPr b="0" lang="en-US" sz="2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228240" y="3428640"/>
            <a:ext cx="8001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Институт за јавно здравље Србије Др Милан Јовановић Батут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представља највишу инстанцу којој 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се прослеђују извештаји о раду из свих здравствених установа са територије Републике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38" name="Picture 3" descr=""/>
          <p:cNvPicPr/>
          <p:nvPr/>
        </p:nvPicPr>
        <p:blipFill>
          <a:blip r:embed="rId1"/>
          <a:stretch/>
        </p:blipFill>
        <p:spPr>
          <a:xfrm>
            <a:off x="6816600" y="152280"/>
            <a:ext cx="2327400" cy="152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9" name="Picture 5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132760" cy="135720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6" descr="C:\Users\Mirjana Petrovic\Desktop\depositphotos_203665714-stock-video-doctors-hands-writing-on-medical.jpg"/>
          <p:cNvPicPr/>
          <p:nvPr/>
        </p:nvPicPr>
        <p:blipFill>
          <a:blip r:embed="rId3"/>
          <a:stretch/>
        </p:blipFill>
        <p:spPr>
          <a:xfrm>
            <a:off x="5775480" y="4800600"/>
            <a:ext cx="3368520" cy="175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 txBox="1"/>
          <p:nvPr/>
        </p:nvSpPr>
        <p:spPr>
          <a:xfrm>
            <a:off x="228240" y="17521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 за јавно здравље основан за територију Републике Србије обједињује податке из индивидуалних и збирних извештаја које достављају заводи, односно институти за јавно здравље и формира одговарајуће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података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кладу са законом и прописима донетим за спровођење овог закон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 за јавно здравље основан за територију Републике Србије дужан је да обрађене збирне извештаје достави министарству надлежном за послове здравља и другим надлежним органима, организацијама и установама за претходну годину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ђене збирне податке према прописаној методологији завод за јавно здравље основан за територију Републике Србије, дужан је да стави на увид јавности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ЉАЊЕ ИЗВЕШТАЈА</a:t>
            </a:r>
            <a:endParaRPr b="0" lang="en-US" sz="2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43" name="Picture 3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905120" cy="124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 txBox="1"/>
          <p:nvPr/>
        </p:nvSpPr>
        <p:spPr>
          <a:xfrm>
            <a:off x="228240" y="637920"/>
            <a:ext cx="891540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здравствене заштите користе се и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 обрасци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цеп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пут за специјалистичко-консултативни преглед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пут за лабораторијски и други дијагностички преглед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интерни упут (за ампулирану терапију, превијање, кућно лечење, поливалентну патронажну службу, саветовалишта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упут за стационарно лечењ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лабораторијски налаз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упут за лекарску комисиј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упут за прописивање медицинско-техничког помагал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здравствене заштите користе се 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 обрасци:</a:t>
            </a:r>
            <a:br>
              <a:rPr sz="25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456840" y="2819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налаз и мишљење здравственог радника или здравственог сарадника односно лекарске комис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лекарско уверењ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) извештај о привременој спречености за рад и потврд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) санитарна књижиц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 здравствена испра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380880" y="9140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а установа, приватна пракса и друго правно лице дужни су да чувају здравствену документацију и евиденције у роковима утврђеним законом, као и прописима којима се уређује архивска грађ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8" name="Rectangle 4"/>
          <p:cNvSpPr/>
          <p:nvPr/>
        </p:nvSpPr>
        <p:spPr>
          <a:xfrm>
            <a:off x="457200" y="297180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а установа, приватна пракса и друго правно лице дужни су да по престанку обављања здравствене делатности, односно брисања из регистра надлежног органа, предају на чување здравствену документацију и евиденције надлежном архиву у складу са законом којим се уређује архивска грађ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9" name="Picture 4" descr="C:\Users\Mirjana Petrovic\Desktop\unnamed (2).jpg"/>
          <p:cNvPicPr/>
          <p:nvPr/>
        </p:nvPicPr>
        <p:blipFill>
          <a:blip r:embed="rId1"/>
          <a:stretch/>
        </p:blipFill>
        <p:spPr>
          <a:xfrm>
            <a:off x="5105520" y="4648320"/>
            <a:ext cx="2946240" cy="196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51" name="Picture 2" descr="C:\Users\Katarina\Desktop\Zdrastveni karton\karto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Picture 2" descr="C:\Users\Katarina\Desktop\Zdrastveni karton\karton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Picture 2" descr="C:\Users\Katarina\Desktop\Zdrastveni karton\karton 3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Perpetua"/>
              </a:rPr>
              <a:t>Медицинска документација садржи информације које се односе на здравствену заштиту појединца, и које су сложене у неколико група</a:t>
            </a:r>
            <a:r>
              <a:rPr b="1" lang="sr-RS" sz="26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Лични и основни социјалнодемогтафски подаци (име, узраст, пол, место боравка, занимање, најближи сродник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Клиничке информације (симптоми, знаци, резултати тестова, дијагнозе, начин лечења, напредовање болести, исход лечења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Економске информације (начин плаћања, врста здравственог осигурања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Административни подаци (место пружања задравствене заштите, здравствена установа, тип услуге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Бихевиорални подаци (одбијање односно давање сагласности за одређен начин лечења, долазак или не долазак на прегледе, прекидање терапије</a:t>
            </a: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..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Picture 2" descr="C:\Users\Katarina\Desktop\Zdrastveni karton\karton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2" descr="C:\Users\Katarina\Desktop\socijalna kme\Naslovna1.jpg"/>
          <p:cNvPicPr/>
          <p:nvPr/>
        </p:nvPicPr>
        <p:blipFill>
          <a:blip r:embed="rId2"/>
          <a:stretch/>
        </p:blipFill>
        <p:spPr>
          <a:xfrm>
            <a:off x="5638680" y="3429000"/>
            <a:ext cx="32004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57" name="Picture 2" descr="C:\Users\Katarina\Desktop\Zdrastveni karton\ulozak kartona 2.jpg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59" name="Picture 2" descr="C:\Users\Katarina\Desktop\Zdrastveni karton\ulozak kartona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rowallia New"/>
              </a:rPr>
              <a:t>ХВАЛА НА ПАЖЊИ!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61" name="Picture 5" descr="C:\Users\Mirjana Petrovic\Desktop\unnamed (6).jpg"/>
          <p:cNvPicPr/>
          <p:nvPr/>
        </p:nvPicPr>
        <p:blipFill>
          <a:blip r:embed="rId1"/>
          <a:stretch/>
        </p:blipFill>
        <p:spPr>
          <a:xfrm>
            <a:off x="685800" y="3276720"/>
            <a:ext cx="7772400" cy="33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 txBox="1"/>
          <p:nvPr/>
        </p:nvSpPr>
        <p:spPr>
          <a:xfrm>
            <a:off x="380880" y="685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Здравствена документациј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и евиденција воде се у писменом или електронском облику!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21" name="Picture 3" descr="C:\Users\Mirjana Petrovic\Desktop\1-primena-novog-zakona-o-zdravstvenoj-dokumentaciji-i-evidencijama-u-oblasti-zdravstva.jpg"/>
          <p:cNvPicPr/>
          <p:nvPr/>
        </p:nvPicPr>
        <p:blipFill>
          <a:blip r:embed="rId1"/>
          <a:stretch/>
        </p:blipFill>
        <p:spPr>
          <a:xfrm>
            <a:off x="380880" y="3124080"/>
            <a:ext cx="41148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22" name="Picture 4" descr="C:\Users\Mirjana Petrovic\Desktop\unnamed (3).jpg"/>
          <p:cNvPicPr/>
          <p:nvPr/>
        </p:nvPicPr>
        <p:blipFill>
          <a:blip r:embed="rId2"/>
          <a:stretch/>
        </p:blipFill>
        <p:spPr>
          <a:xfrm>
            <a:off x="4876920" y="3124080"/>
            <a:ext cx="392436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263760"/>
                <a:gridCol w="5880240"/>
              </a:tblGrid>
              <a:tr h="557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ирна медицинска документ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 лако да се но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ји велика слобода у записивању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хтева специјалну обуку за вођење документ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адиштење које обезбеђује да се подаци неће изгубити или промен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беђује приватност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зованост и конфуз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тећење приликом нош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шкоће у проналажењу информ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так или немогућност размене информација између различитих давалаца усл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гментовани и неинтегрисани подаци могу водити губитку континуитета у здравственој зашт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бедност, поверљивост, интегритет и аутентичност података могу бити наруш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шкови чувања су вел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ирна и електронска медицинска документациј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5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684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нска медицинска документ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1167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ше подржава истраживања и омогућава дуготрајну доступност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еди физички простор, омогућава електронску размену података и редукује трошкове система з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огућава приступ са више места истовремено, већа је доступност података и лакша је читљив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едноставније је креирање јединствене документације о  корисн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жава структуирана унос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томатска провера уноса података, правопис и прописане рецепте, и упозорава на греш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 трошкови приликом увођења, и ограничени ресурси здравствених уст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ак компијутерских вештина запослених и експертизе од надлежног особ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ор здравствених радника и других здравствених професионалаца да прихвате електронску документацију уместо папир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так „људскости“ немогућност уношења сопственог мишљења и погледа на пациј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бедност, поверљивост, интегритет и аутентичност података могу бити наруш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ђење медицинске документације јесте законска обавеза свих здравствених радн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304560" y="2209680"/>
            <a:ext cx="88390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и о предузетим активностима на лечењу пациј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на сигурност (корисника и даваоца здравствених услуг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ђење евиденција, састављање и достављање прописаних извештаја саставни је део стручног медицинског рада здравствених организац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12:37:20Z</dcterms:created>
  <dc:creator>Ceca</dc:creator>
  <dc:description/>
  <dc:language>en-US</dc:language>
  <cp:lastModifiedBy>Mirjana Petrovic</cp:lastModifiedBy>
  <dcterms:modified xsi:type="dcterms:W3CDTF">2021-08-31T07:54:18Z</dcterms:modified>
  <cp:revision>218</cp:revision>
  <dc:subject/>
  <dc:title>PowerPoint Presentation</dc:title>
</cp:coreProperties>
</file>